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2E04-B258-406D-BF51-05B7736E6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0883-1777-445B-87C8-755285E0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9E5B-40B8-480A-8CED-21795394A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FFC8-9682-4F6D-8EA7-15CC4A8BF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8EFB-650D-4893-85BA-CB0D5E1E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2D5F-F0BE-4F0E-85C9-62F6FBBE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3653-A314-491D-B704-DB668775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DB0F-DFC8-4A76-987E-4B77D720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1F4C-FF3F-478A-A20A-2CB0B130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71CF-EEA6-4957-9CC1-2C8447AB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20B4-8937-432A-9856-0F29829F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84A9-5AB6-4A0C-9FC7-9C368D92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21f07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21f0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21f0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21f0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21f0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21f0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68c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F1E460-6D65-4B8E-8769-8A2FBF8C9A35}" type="datetime">
              <a:rPr b="0" lang="en-US" sz="1200" spc="-1" strike="noStrike">
                <a:solidFill>
                  <a:srgbClr val="b68c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68c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CD397A-9CF0-43C9-BBA6-5D065456C304}" type="slidenum">
              <a:rPr b="0" lang="en-US" sz="1200" spc="-1" strike="noStrike">
                <a:solidFill>
                  <a:srgbClr val="b68c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60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21f07"/>
                </a:solidFill>
                <a:latin typeface="Calibri"/>
              </a:rPr>
              <a:t>Teaching HIV: Educating Residents and Empowering Patients</a:t>
            </a:r>
            <a:endParaRPr b="0" lang="en-US" sz="40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59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b68c89"/>
                </a:solidFill>
                <a:latin typeface="Calibri"/>
              </a:rPr>
              <a:t>Joanna Eveland, MS, MD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b68c89"/>
                </a:solidFill>
                <a:latin typeface="Calibri"/>
              </a:rPr>
              <a:t>May 18, 2010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43" name="Picture 5" descr="conversation.gif"/>
          <p:cNvPicPr/>
          <p:nvPr/>
        </p:nvPicPr>
        <p:blipFill>
          <a:blip r:embed="rId1"/>
          <a:stretch/>
        </p:blipFill>
        <p:spPr>
          <a:xfrm>
            <a:off x="2712960" y="2401920"/>
            <a:ext cx="367524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Outcomes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17 HIV Group Medical visits to date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4 residents participated 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One resident facilitated 8 groups; One resident facilitated 3 groups; Two residents facilitated 1 group each.</a:t>
            </a: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Overall positive feedback from residents and patients.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70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Topics Covered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HIV pathophysiology</a:t>
            </a: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Understanding HIV Labs</a:t>
            </a: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Influenza</a:t>
            </a: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Prevention for Positives</a:t>
            </a: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Hepatitis C</a:t>
            </a: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Antiretroviral Adherence</a:t>
            </a: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Art &amp; Poetry projects</a:t>
            </a: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Cardiovascular disease &amp; HIV</a:t>
            </a: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Health Self-Management</a:t>
            </a: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Advanced Directives (with attorney present)</a:t>
            </a: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73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Experience for Residents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More comfortable with group visit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Better at HIV screening and prevention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Understanding chronic disease and identity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76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Experience for Patients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Accepting of residents and each other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Move through stages of grief, recovery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Value the group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79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Challenges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For resident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Facilitation skills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Continuity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Scheduling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For patient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Strong emotions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Homogeneous group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Lack of systemic support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82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FPs are the future of HIV medicine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Residency is a good time to learn HIV care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Group visits are great for patients and resident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Get involved!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85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Thanks</a:t>
            </a:r>
            <a:r>
              <a:rPr b="0" lang="en-US" sz="4400" spc="-1" strike="noStrike">
                <a:solidFill>
                  <a:srgbClr val="921f07"/>
                </a:solidFill>
                <a:latin typeface="Calibri"/>
              </a:rPr>
              <a:t>!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Cynthia Carmichael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Michel Sam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Patients of the N. Richmond HIV group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Ann Harvey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Elise Lewis &amp; Anni Hansen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Alan Siegel &amp; David Pepper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88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Future Directions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Longitudinal tracks?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Research?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Fundraising?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Increased county support for group visits?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91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Discuss the role of Family Practice residents in HIV care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Explain how an HIV group visit work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Share a model for a resident-driven longitudinal curriculum during residency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46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HIV in CCC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1700 HIV+ patients, majority in West CCC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Cared for in 6 FM ID clinic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Ryan White part C funded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N. Richmond: 70+ patients, majority men, high prevalence of IDU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49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My Path to HIV Medicine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Personal and professional interest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Work in West County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Great mentorship and role model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Needed more training!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52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Calibri"/>
              </a:rPr>
              <a:t>Barriers to practicing HIV medicine as a resident</a:t>
            </a:r>
            <a:endParaRPr b="0" lang="en-US" sz="40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Many other commitment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Low inpatient HIV censu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Specialty clinic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Established provider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Perceived difficulty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55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We Can Do This!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FPs are good at: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Chronic disease management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Multidisciplinary teams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Addressing substance abuse and mental illness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Prevention and harm reduction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End of life care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58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My Action Plan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Met with mentor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Pursued elective opportunities through East Bay AETC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Reviewed literature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Attended local conference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Participated in HIV group visit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61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HIV Group Visits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Started informally in NR 10 years ago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Begun in response to high death rate in West CCC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Cohesive group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Active patient involvement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64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Group Visit Format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8 AM: Patients arrive, RNs check vital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Guided meditation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Check in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Resident led discussion/ presentation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Patients seen individually after group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67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00:24:13Z</dcterms:created>
  <dc:creator>Joanna Eveland</dc:creator>
  <dc:description/>
  <dc:language>en-US</dc:language>
  <cp:lastModifiedBy>Joanna Eveland</cp:lastModifiedBy>
  <dcterms:modified xsi:type="dcterms:W3CDTF">2010-05-18T18:27:16Z</dcterms:modified>
  <cp:revision>7</cp:revision>
  <dc:subject/>
  <dc:title>Slide 1</dc:title>
</cp:coreProperties>
</file>